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84879C-108B-4E03-ABC5-50CA5BAE5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age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Selection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ON REQUIREMENTS…Compulsory Credits…Grade 10/Gra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729D09-D950-4E9B-A7EF-ABF608D7F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27DDFF-301F-44EC-B305-FBC5E3C6C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8641D4-6C86-4530-95C9-DE77EA70E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Credit Counseling Summary online…or check in your first semester report c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CFACF0-CAD6-4ED5-AA79-717990600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3999A1-44FF-491F-B12E-3C0E9D8D7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D7B-B85C-4EBF-8CBC-9F7F9A58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EF2-3AC3-4310-AB4E-3AA72F9E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574-F227-45F6-AF43-6238AB3E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CCD-BC8C-446A-AECC-0C409F98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157A-E127-4077-B57D-9164DDD8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7147-C8A9-4271-8B6D-B9F490F3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9BE1-3291-4336-BEE3-131B12B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0C21-0211-4613-A7AF-150616D7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BBF5-3CFD-4AE5-B213-06B9C630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F26B-70E5-4315-A784-63427F3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503E-C444-4935-9614-006A01B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0B4-35A3-4C08-BFD9-5D10674D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598-166A-45B4-9D86-5CE33D48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19D-6EB8-4DB5-A7E4-05313B9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BB98-C72E-4CB3-A5BE-3654CC1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F82-C7A9-4183-90D7-9598FECB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2C07-EAA0-46C5-954C-7AF4BEFE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C786-E0EA-4F4C-81EB-B708A752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5587-3CCC-43EC-9FE6-75BC585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2E6F-2A98-4A32-86F9-3A15403A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D453-71A7-4C58-8F08-BD3230C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0488-21ED-4A31-B3F2-3DFC1F6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D5B-FC20-498D-B3A1-B1E682A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AFE7-C22E-4E0E-AA71-F47C885F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80A2-851C-47C2-AA46-08CD4EE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362C-E03A-47B0-BE81-F11FB28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E9BB-C839-4F0D-9C93-0F52F70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B96D-5936-4C63-ABD9-7D383E9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C1B06-2BCD-48B0-A17D-EBFF7647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030B-BEE2-4D18-9DB3-B30A3A31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CFC-BC00-44D7-B144-539FB7C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50C-83A2-47FF-A578-E809BA3D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297-2336-48B2-9778-E0BDF4A2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0DB-721B-4264-9C73-5236473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BC2-3DF9-435B-9A4D-C98ADABD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1E9-7072-49D8-9B4C-8D3DB22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4fc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2D7A-5E2E-465F-A992-762DE1B6C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F00-3A7B-40A2-8A65-D94F6A6A0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1DB-95E8-42CE-BE9B-3015262D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rive.google.com/file/d/0B6473v8DfN6CcVRUQ3pybVlaYUk/view?usp=sharing" TargetMode="External"/><Relationship Id="rId2" Type="http://schemas.openxmlformats.org/officeDocument/2006/relationships/hyperlink" Target="https://drive.google.com/file/d/0B6473v8DfN6CcVRUQ3pybVlaYUk/view?usp=sharin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blogo"/>
          <p:cNvPicPr/>
          <p:nvPr/>
        </p:nvPicPr>
        <p:blipFill>
          <a:blip r:embed="rId1"/>
          <a:stretch/>
        </p:blipFill>
        <p:spPr>
          <a:xfrm>
            <a:off x="2459160" y="3352680"/>
            <a:ext cx="4429080" cy="2381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76440" y="663480"/>
            <a:ext cx="616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Welco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20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Gra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D, ENG4C, and others depending on the specific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s, Program tests (Math, Language, HOAE), and/or interviews are required for certa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 degree programs and collaborative programs have university requirements (ex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helor of Interior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lied degre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Sc. Nur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llaborative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ulation agreements with universities – opportunity to continue from college into degre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85920" y="1316160"/>
            <a:ext cx="8229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 a Bachelor’s Degree (Undergradu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BSc, BCom, BA, B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ampus photo"/>
          <p:cNvPicPr/>
          <p:nvPr/>
        </p:nvPicPr>
        <p:blipFill>
          <a:blip r:embed="rId2"/>
          <a:stretch/>
        </p:blipFill>
        <p:spPr>
          <a:xfrm>
            <a:off x="1384200" y="2814480"/>
            <a:ext cx="6159600" cy="254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547640"/>
            <a:ext cx="822960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4U or 4M courses (some schools maximum of two 4M co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4U and specific progra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683748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 Guidanc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and College Lunch Tim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@ColBy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Remind App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Grad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Remind"/>
          <p:cNvPicPr/>
          <p:nvPr/>
        </p:nvPicPr>
        <p:blipFill>
          <a:blip r:embed="rId2"/>
          <a:stretch/>
        </p:blipFill>
        <p:spPr>
          <a:xfrm>
            <a:off x="5916600" y="3773520"/>
            <a:ext cx="2722680" cy="515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twitter"/>
          <p:cNvPicPr/>
          <p:nvPr/>
        </p:nvPicPr>
        <p:blipFill>
          <a:blip r:embed="rId3"/>
          <a:stretch/>
        </p:blipFill>
        <p:spPr>
          <a:xfrm>
            <a:off x="4648320" y="3429000"/>
            <a:ext cx="4791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3720" y="2928960"/>
            <a:ext cx="35719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2194920" y="5003640"/>
            <a:ext cx="4112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Info  (www.electronicinfo.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electronicinfo"/>
          <p:cNvPicPr/>
          <p:nvPr/>
        </p:nvPicPr>
        <p:blipFill>
          <a:blip r:embed="rId2"/>
          <a:stretch/>
        </p:blipFill>
        <p:spPr>
          <a:xfrm>
            <a:off x="1806480" y="2084400"/>
            <a:ext cx="4762440" cy="2600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564120" y="1262160"/>
            <a:ext cx="23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2199960"/>
            <a:ext cx="476244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343400" y="3889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Ontario Colleges"/>
          <p:cNvPicPr/>
          <p:nvPr/>
        </p:nvPicPr>
        <p:blipFill>
          <a:blip r:embed="rId2"/>
          <a:stretch/>
        </p:blipFill>
        <p:spPr>
          <a:xfrm>
            <a:off x="2036880" y="2122560"/>
            <a:ext cx="4570200" cy="17064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501480" y="4043520"/>
            <a:ext cx="765828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the university or colleg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ssion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64120" y="1262160"/>
            <a:ext cx="23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3720" y="1585800"/>
            <a:ext cx="46864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7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Evening (UI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:00 Paren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:15 UIP/YOU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:30 UIP Classroom Presentation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OUF2"/>
          <p:cNvPicPr/>
          <p:nvPr/>
        </p:nvPicPr>
        <p:blipFill>
          <a:blip r:embed="rId2"/>
          <a:stretch/>
        </p:blipFill>
        <p:spPr>
          <a:xfrm>
            <a:off x="5378400" y="2008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105200" y="219240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ntariocollege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pens in early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5 application fee for 5 program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deadline for equal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colleges may begin sending offers of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8 deadlin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al offers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-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-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-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372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uac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Numbers will be distributed shor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 application fee for three program choices ($50 for additional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 change fee for new choices – unless new program at sam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nuary 17, 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adline fo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niversity you apply to will provide you with a university specif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 por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personal lo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itional offers of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stand cond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d (ex. maintain 80% ave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footer9"/>
          <p:cNvPicPr/>
          <p:nvPr/>
        </p:nvPicPr>
        <p:blipFill>
          <a:blip r:embed="rId1"/>
          <a:stretch/>
        </p:blipFill>
        <p:spPr>
          <a:xfrm>
            <a:off x="461880" y="5388120"/>
            <a:ext cx="80280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539640" y="2084400"/>
          <a:ext cx="7642440" cy="2727360"/>
        </p:xfrm>
        <a:graphic>
          <a:graphicData uri="http://schemas.openxmlformats.org/drawingml/2006/table">
            <a:tbl>
              <a:tblPr/>
              <a:tblGrid>
                <a:gridCol w="764244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Admissio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arly rou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f offers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ember/Januar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nly for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select school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based on top 4 or 5 Grade 11 marks (including prerequisite cour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rst rou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f admissions based on grade 11/12 marks submitted to OUAC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ebruary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cond rou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f admissions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pril 20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7392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4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with additional requirements (ie., portfolios) take longer for admission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s taken outside of Colonel By must be submitted to counsellors for input (ie. Language, ILC, eLearning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9, 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test date to expect a response from Ontario Universities (offer of admission, refusal, defer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, 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adline to accept o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footer9"/>
          <p:cNvPicPr/>
          <p:nvPr/>
        </p:nvPicPr>
        <p:blipFill>
          <a:blip r:embed="rId1"/>
          <a:stretch/>
        </p:blipFill>
        <p:spPr>
          <a:xfrm>
            <a:off x="615960" y="6002280"/>
            <a:ext cx="77580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920" y="1585800"/>
            <a:ext cx="822960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ool-speci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emental application dead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ing of program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alternate o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al process and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with your 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the university or college admissions office/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footer9"/>
          <p:cNvPicPr/>
          <p:nvPr/>
        </p:nvPicPr>
        <p:blipFill>
          <a:blip r:embed="rId1"/>
          <a:stretch/>
        </p:blipFill>
        <p:spPr>
          <a:xfrm>
            <a:off x="461880" y="573408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268280" y="1854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961920" y="1969920"/>
            <a:ext cx="706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1480" y="1460520"/>
            <a:ext cx="80265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-GRADUAT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gr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ine, Law, Dentistry, Education, Pharmacy, Physiotherap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graduate Degrees: completed following undergraduate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graduate Diplomas and Certificates at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 OUTSIDE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ines and application processes must be completed directly through universit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s can be requested through Guidance secretary (OUAC reference number used for many out-of-province schools such as McGill, UBC, Dalhous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and other International applications require students to contact guidance counsellor to advise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pplication:  www.commonapp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USA: www.educationusa.stat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nce admission scholarships based on marks (80%+) do not requir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rit-b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larships include prerequisite courses in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niversities reassess scholarship offers if admission average increases or de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of scholarships are university-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trance admission scholarships, but many internal/external scholarship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 Service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3720" y="1547640"/>
            <a:ext cx="7878960" cy="29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G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ooter9"/>
          <p:cNvPicPr/>
          <p:nvPr/>
        </p:nvPicPr>
        <p:blipFill>
          <a:blip r:embed="rId1"/>
          <a:stretch/>
        </p:blipFill>
        <p:spPr>
          <a:xfrm>
            <a:off x="347760" y="5925960"/>
            <a:ext cx="8486640" cy="6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ost Secondary Present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16"/>
          <p:cNvSpPr/>
          <p:nvPr/>
        </p:nvSpPr>
        <p:spPr>
          <a:xfrm>
            <a:off x="5608800" y="4273560"/>
            <a:ext cx="215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future arrow"/>
          <p:cNvPicPr/>
          <p:nvPr/>
        </p:nvPicPr>
        <p:blipFill>
          <a:blip r:embed="rId2"/>
          <a:stretch/>
        </p:blipFill>
        <p:spPr>
          <a:xfrm>
            <a:off x="6300720" y="1816200"/>
            <a:ext cx="2371680" cy="365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LARSHIPS &amp; BU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3720" y="166212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cholarshipscanad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Yconi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and Colleg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61880" y="1585800"/>
            <a:ext cx="787896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3720" y="16236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-SECONDARY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fees range $5,000-$16,000/year, plus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e fees $4,800-$15,000 (+/- meal p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openly discus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(estimator tool; loans and gran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osap.gov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31080" y="3303720"/>
            <a:ext cx="1865160" cy="180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5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SAP for 2017-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ncludes: grants, bursaries and scholarship and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s a needs-based program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AS AND OUAC will link with OSAP for the firs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hould receive confirmation of their OSAP funding at the same time as they receive conditional offers of admission from colleges and 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SAP PRESENTA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OCTOBER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@ LUNCH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3720" y="1854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udents are applying through OCAS/OUAC they will be presented with a green OSAP banner asking them to set-up their OSAP account to find out how much funding they will be eligible to receive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link their OCAS/OUAC with OSAP, when the 18/19 OSAP application launches (planned for early November), OSAP will pre-populate applications based on student’s info and program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l Education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ervices for students with learning exceptionalities will differ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EP will not be acceptable documentation; current documentation (ex. psycho-educational assessment completed within last 4 years) will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prospective schools’ student support services, and book appointments to begin the process once an offer is accep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he CUT information session:  November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Success Suppor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Post-Second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1880" y="17395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year students struggle with meeting deadlines, essay writing, academic expectations, motivation, and stud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ait until there is a problem to seek support from the university/college – access “Student Success” services– there are many supports/programs in place to help you adapt and be 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921040" y="1547640"/>
            <a:ext cx="2725560" cy="153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098800" y="2316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1268640" y="258444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5560" y="14317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AC pins will be distributed through English classes as soon as they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 stressful process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y ca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s, please be supportive, informed, and real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, please be informed, realisti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unic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46640" y="2008080"/>
            <a:ext cx="1440000" cy="10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A-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H-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names P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gn up for RE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1806480" y="933480"/>
            <a:ext cx="5500800" cy="576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49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7760" y="1355400"/>
            <a:ext cx="8486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RADUATION REQUIREMENT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ubmitt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ommunity involvement hou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ue: May 31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,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passed the Literacy Test (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SSL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) or the Literacy Cou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re you on track to earn your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redits?  (18 compulsory + 12 electiv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view Credit Counselling Summary to verify this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footer9"/>
          <p:cNvPicPr/>
          <p:nvPr/>
        </p:nvPicPr>
        <p:blipFill>
          <a:blip r:embed="rId1"/>
          <a:stretch/>
        </p:blipFill>
        <p:spPr>
          <a:xfrm>
            <a:off x="328680" y="5964120"/>
            <a:ext cx="8199360" cy="6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rad hat"/>
          <p:cNvPicPr/>
          <p:nvPr/>
        </p:nvPicPr>
        <p:blipFill>
          <a:blip r:embed="rId2"/>
          <a:stretch/>
        </p:blipFill>
        <p:spPr>
          <a:xfrm>
            <a:off x="6453360" y="1278000"/>
            <a:ext cx="205236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1623960"/>
            <a:ext cx="787896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? Apprenticesh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? Univers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/travel? Part-time studies/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year to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your strengths and interests when making a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ome research to decide on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footer9"/>
          <p:cNvPicPr/>
          <p:nvPr/>
        </p:nvPicPr>
        <p:blipFill>
          <a:blip r:embed="rId1"/>
          <a:stretch/>
        </p:blipFill>
        <p:spPr>
          <a:xfrm>
            <a:off x="501480" y="596412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road sign"/>
          <p:cNvPicPr/>
          <p:nvPr/>
        </p:nvPicPr>
        <p:blipFill>
          <a:blip r:embed="rId2"/>
          <a:stretch/>
        </p:blipFill>
        <p:spPr>
          <a:xfrm>
            <a:off x="6684840" y="1623960"/>
            <a:ext cx="1758960" cy="1758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549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P YEAR? 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ograms are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your guidance counsellor for tips on resumes, cover letters, interview skills, and letters of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RENTICE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 and apprenticeship programs are a great way to gain experience and make contacts if you are planning to go to work directly after high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footer9"/>
          <p:cNvPicPr/>
          <p:nvPr/>
        </p:nvPicPr>
        <p:blipFill>
          <a:blip r:embed="rId1"/>
          <a:stretch/>
        </p:blipFill>
        <p:spPr>
          <a:xfrm>
            <a:off x="539640" y="5772240"/>
            <a:ext cx="8172720" cy="61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?  UNIVERS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hoosing a college or university, consi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and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university/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within th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of the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from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ces and alternative living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3360" y="1816200"/>
            <a:ext cx="83725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B - Where are you n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hat would you tell your grade 12 sel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ooter9"/>
          <p:cNvPicPr/>
          <p:nvPr/>
        </p:nvPicPr>
        <p:blipFill>
          <a:blip r:embed="rId3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 in a diploma, degr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ollege campus"/>
          <p:cNvPicPr/>
          <p:nvPr/>
        </p:nvPicPr>
        <p:blipFill>
          <a:blip r:embed="rId2"/>
          <a:stretch/>
        </p:blipFill>
        <p:spPr>
          <a:xfrm>
            <a:off x="5186520" y="2392200"/>
            <a:ext cx="3149280" cy="1770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Gillet building"/>
          <p:cNvPicPr/>
          <p:nvPr/>
        </p:nvPicPr>
        <p:blipFill>
          <a:blip r:embed="rId3"/>
          <a:stretch/>
        </p:blipFill>
        <p:spPr>
          <a:xfrm>
            <a:off x="501480" y="2968560"/>
            <a:ext cx="4070520" cy="233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Algonquin"/>
          <p:cNvPicPr/>
          <p:nvPr/>
        </p:nvPicPr>
        <p:blipFill>
          <a:blip r:embed="rId4"/>
          <a:stretch/>
        </p:blipFill>
        <p:spPr>
          <a:xfrm>
            <a:off x="5186520" y="4235400"/>
            <a:ext cx="3149280" cy="172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04:50Z</dcterms:created>
  <dc:creator>HP Authorized Customer</dc:creator>
  <dc:description/>
  <dc:language>en-US</dc:language>
  <cp:lastModifiedBy>C32954</cp:lastModifiedBy>
  <dcterms:modified xsi:type="dcterms:W3CDTF">2017-10-19T17:15:23Z</dcterms:modified>
  <cp:revision>206</cp:revision>
  <dc:subject/>
  <dc:title>Slide 1</dc:title>
</cp:coreProperties>
</file>